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70CD-FFFB-4137-9686-11A7DFC92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4E14-D184-472E-B3F7-71C1B27F603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F035-B4E8-44DC-816A-38BF9B85FF9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4600-D36A-4634-A00C-2F77C3F8DE9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C2F7-8274-47B5-80F2-EE03963D0BA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er end of the ladel point to Regul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le curves to Arcturus then Sp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6282-185D-4009-8BFD-7FBF9161285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B649-3963-4937-B471-C00988AC68C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8E70-90E6-4447-A09B-0EDDC32907E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2EFF-1240-4883-A39C-01C0984848B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6028-8F58-4668-A421-60F9E8F3070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8E84-6D44-485C-A8EB-1D0BBAC8727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B6C1-BB90-4181-B52B-EFEF328056B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B99B-7A64-4F64-A7CE-4AF994604F3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AC3B-0178-4DC7-A9EB-072F183BD36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11B8-51BA-4DF1-94EC-CF0EEC8B6AD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C3B5-AF98-467E-9BA0-2CC1CF75DB5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2C78-19A0-476F-883A-C28F3519E09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37B6-AD3A-4F1B-B90F-8BF0AC5C440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9A07-DC1C-4B3A-AAEB-B46988531D7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EDFE-ADFF-4A97-A1DB-A1928437433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9B2E-0B01-4614-AC9A-50CB87B9D82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1467-CB02-47AA-A68C-6425EDB5488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F766-756C-4E24-B1B3-E99D4C751EE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A408-A17D-4468-BE15-AF3A884957E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0BED-36E4-4DEC-9638-480D30F3A0F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7BC7-1FC0-47CD-965E-8C57E5DB665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238-E26B-47AF-BE58-68DFB985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916-8626-4BD2-9C13-B58C241C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46C-6122-414D-B580-1066782F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3C4-4F14-4F05-B56C-EC616D1F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F6FF-A5B2-4EAC-85DE-07F136F0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158C-99AA-4433-AA39-BAB1DDDA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9F0A-A1BE-44B5-AD52-AF5C4588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F35B-3403-400C-85AB-B0D4BE20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5C21-D484-4C83-92FE-2165989F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715C-D791-4E2D-9B46-828F369E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BC24-90C6-4E2F-AF09-21EC33C5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773B-94E7-4404-906A-B49E904E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BBFD-3B36-486A-ABCD-CD924DF3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4CC6-BB8A-4D1A-AA2B-80A83DA0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3B4C-CBF8-414C-B9DF-FD7F8AE7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BC2A-701C-425E-A92B-7D61D5D4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59CB-49C2-4373-B01A-7F5DBA08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AC8-046B-4F3D-BA82-4ACB11CE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57D-6B52-42CA-BEAE-D91EE751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734-0E1E-4FED-97BC-B5E80729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6BF2-CC11-4CB3-BBF8-FDE44A86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510-A0E0-4FCD-BF9A-10439260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BFA9-48B8-41CF-A1AF-F3AFA793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206-4F7A-4610-B2C7-49838654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13F0-36BC-4772-934E-F53D8AC53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34DE-6F3F-44DD-9A36-5A879A93B7F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90627.html" TargetMode="External"/><Relationship Id="rId2" Type="http://schemas.openxmlformats.org/officeDocument/2006/relationships/hyperlink" Target="http://antwrp.gsfc.nasa.gov/apod/ap090912.html" TargetMode="External"/><Relationship Id="rId3" Type="http://schemas.openxmlformats.org/officeDocument/2006/relationships/hyperlink" Target="http://antwrp.gsfc.nasa.gov/apod/ap021106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stropix.com/HTML/C_SPRING/URSA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earth-and-moon-from-mars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477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Night Sky Watching (Basics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care about finding Polar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direction of Polaris is due No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ngle between Polaris and the horizon is </a:t>
            </a:r>
            <a:r>
              <a:rPr b="1" lang="en-US" sz="4400" spc="-1" strike="noStrike">
                <a:solidFill>
                  <a:srgbClr val="cc0099"/>
                </a:solidFill>
                <a:latin typeface="Verdana"/>
              </a:rPr>
              <a:t>YOUR LATITUD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can I measure angl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handdiagrams"/>
          <p:cNvPicPr/>
          <p:nvPr/>
        </p:nvPicPr>
        <p:blipFill>
          <a:blip r:embed="rId1"/>
          <a:stretch/>
        </p:blipFill>
        <p:spPr>
          <a:xfrm>
            <a:off x="-1066680" y="990720"/>
            <a:ext cx="11048760" cy="472428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g Dipper as Star Gui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dipper_guide"/>
          <p:cNvPicPr/>
          <p:nvPr/>
        </p:nvPicPr>
        <p:blipFill>
          <a:blip r:embed="rId1"/>
          <a:stretch/>
        </p:blipFill>
        <p:spPr>
          <a:xfrm>
            <a:off x="990720" y="415800"/>
            <a:ext cx="7238880" cy="644220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4" descr="viewfromathen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tronomy Picture of the Day (APOD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antwrp.gsfc.nasa.gov/apod/ap090627.htm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er Triang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antwrp.gsfc.nasa.gov/apod/ap090912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nter Hexag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antwrp.gsfc.nasa.gov/apod/ap021106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mer Triang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summertriangle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61610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259092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ter Hexag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3" descr="winterhexagon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Fac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up of stars all in roughly the same direction from Earth, BUT …. Each has its own different distance from the Ea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refore, NOT grouped together is sp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rom Greek astronomers have inherited the names of the constellations: mythological figures or anim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erent cultures on Earth each have different names for the constell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Stars at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fferen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Distances from Ear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4" descr="orion_2d_3d"/>
          <p:cNvPicPr/>
          <p:nvPr/>
        </p:nvPicPr>
        <p:blipFill>
          <a:blip r:embed="rId1"/>
          <a:stretch/>
        </p:blipFill>
        <p:spPr>
          <a:xfrm>
            <a:off x="3505320" y="0"/>
            <a:ext cx="5960880" cy="708660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Visible Constellations change over a yea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y have heard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on is a winter constellatio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 can see Cygnus most of the summ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ve comments arise because you cannot see the Constellations near where  the Sun is in the sk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 so bright it washes out rest of st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ce Sun moves along the Ecliptic over a year the constellations “away” from the Sun change over a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rs Pivot around a Poi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04a-021"/>
          <p:cNvPicPr/>
          <p:nvPr/>
        </p:nvPicPr>
        <p:blipFill>
          <a:blip r:embed="rId1"/>
          <a:stretch/>
        </p:blipFill>
        <p:spPr>
          <a:xfrm>
            <a:off x="2362320" y="533520"/>
            <a:ext cx="4356000" cy="63244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on opposite side of Sun (Opposition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Picture 4" descr="season_const"/>
          <p:cNvPicPr/>
          <p:nvPr/>
        </p:nvPicPr>
        <p:blipFill>
          <a:blip r:embed="rId1"/>
          <a:stretch/>
        </p:blipFill>
        <p:spPr>
          <a:xfrm>
            <a:off x="5073480" y="0"/>
            <a:ext cx="40705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Zodia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and of constellations closest to the Ecliptic (Sun’s yearly path across the sky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orrespond to Horoscope “Sign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trology used to make predictions (not science!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ful for backyard astronomy: Planets and the Moon can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Verdana"/>
              </a:rPr>
              <a:t>always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be found in the Zodia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idth of the Zodiac belt ~ 18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1029" descr="zodiac_b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2" name="Picture 4" descr="Westlake3Planets061905"/>
          <p:cNvPicPr/>
          <p:nvPr/>
        </p:nvPicPr>
        <p:blipFill>
          <a:blip r:embed="rId1"/>
          <a:stretch/>
        </p:blipFill>
        <p:spPr>
          <a:xfrm>
            <a:off x="-581040" y="0"/>
            <a:ext cx="10258560" cy="6862680"/>
          </a:xfrm>
          <a:prstGeom prst="rect">
            <a:avLst/>
          </a:prstGeom>
          <a:ln w="0">
            <a:noFill/>
          </a:ln>
        </p:spPr>
      </p:pic>
      <p:sp>
        <p:nvSpPr>
          <p:cNvPr id="203" name="Oval 5"/>
          <p:cNvSpPr/>
          <p:nvPr/>
        </p:nvSpPr>
        <p:spPr>
          <a:xfrm>
            <a:off x="6400800" y="5562720"/>
            <a:ext cx="228600" cy="228600"/>
          </a:xfrm>
          <a:prstGeom prst="ellipse">
            <a:avLst/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4" descr="ecliptic_clem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ercu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991800" y="4419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2096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atur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38120" y="-3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ming Sta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rightest star in constellation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eek name: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rabic name: Aldebar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l Debarre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The Follow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(of the Pleiad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Picture 4" descr="taurus"/>
          <p:cNvPicPr/>
          <p:nvPr/>
        </p:nvPicPr>
        <p:blipFill>
          <a:blip r:embed="rId1"/>
          <a:stretch/>
        </p:blipFill>
        <p:spPr>
          <a:xfrm>
            <a:off x="0" y="0"/>
            <a:ext cx="4951440" cy="3809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pleiades-20960"/>
          <p:cNvPicPr/>
          <p:nvPr/>
        </p:nvPicPr>
        <p:blipFill>
          <a:blip r:embed="rId2"/>
          <a:stretch/>
        </p:blipFill>
        <p:spPr>
          <a:xfrm>
            <a:off x="304920" y="36576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orth Celestial Pole (NCP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ecial spot on the sky that the Earth’s rotation axis points t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special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During the night the stars appear to rotate around this spo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so special (and useful) in other ways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ching Stars from the North Po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SouthPole"/>
          <p:cNvPicPr/>
          <p:nvPr/>
        </p:nvPicPr>
        <p:blipFill>
          <a:blip r:embed="rId1"/>
          <a:stretch/>
        </p:blipFill>
        <p:spPr>
          <a:xfrm>
            <a:off x="838080" y="1128600"/>
            <a:ext cx="7162920" cy="572940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are Bi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olaris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: Points to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astropix.com/HTML/C_SPRING/URSAS.H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nding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northstar01"/>
          <p:cNvPicPr/>
          <p:nvPr/>
        </p:nvPicPr>
        <p:blipFill>
          <a:blip r:embed="rId1"/>
          <a:stretch/>
        </p:blipFill>
        <p:spPr>
          <a:xfrm>
            <a:off x="228600" y="909720"/>
            <a:ext cx="8915400" cy="594828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ucky Breaks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tar Polaris is amazing close to NCP (now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“pointer stars” in the Big Dipper line up directly with Polaris!!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g Dipper is circumpolar constell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e it all night and all ye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laris also called Pole Star, North St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04a-021a"/>
          <p:cNvPicPr/>
          <p:nvPr/>
        </p:nvPicPr>
        <p:blipFill>
          <a:blip r:embed="rId1"/>
          <a:stretch/>
        </p:blipFill>
        <p:spPr>
          <a:xfrm>
            <a:off x="838080" y="60948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8-03-13T05:31:25Z</dcterms:modified>
  <cp:revision>185</cp:revision>
  <dc:subject/>
  <dc:title>PowerPoint Presentation</dc:title>
</cp:coreProperties>
</file>